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DBE-EAF0-4CD0-9F95-98A1A563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689-59E1-490D-9158-9AD6F616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277-6957-487D-B2F3-EEAEDD51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547-D2BC-45BA-8B9F-3895249B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AB7-95CA-4A2A-A92E-0B94F5C0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DFB-DB09-4B9A-A89F-987AAF37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A15-E7D5-488D-AA85-C12E8AFB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1D9-EBA5-4502-AA73-30F37C5E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676-6290-43E4-9F49-1F0CDAE5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4D3-A67A-4C64-A313-EFF52DB6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1A1-E9B3-4FE7-B9CB-0D7D2801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9B3-7C48-4416-8C63-CC04545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DF3D-C918-46CC-BCBE-B6F1C45D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                                          ARDEER                                           ARDEER                                      ARDEER  150TH                        ARDEER MILLENNIUM                        ARDEER  RE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161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REC                            ARDEER  REC.  50TH.                     ARDEER  REC  75TH                                 ARDROSSAN                                ARDROSSAN                                ARDROSS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OSSAN                              ARDROSSAN  150TH              ARDROSSAN  MILLENNIUM                   BEECHAM  WORKS                                BEITH                                              BE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692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ITH  100TH                                      BEITH  125TH                 BLACKLANDS  &amp;  DISTRICT                       BLACKLANDS                           BLACKLANDS  25TH                              DAL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0520" y="620640"/>
            <a:ext cx="1242720" cy="86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16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2888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53240" y="47628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265960" y="333360"/>
            <a:ext cx="9702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0488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1628640"/>
            <a:ext cx="1087200" cy="152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31324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753240" y="2276640"/>
            <a:ext cx="987480" cy="88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93240" y="2205000"/>
            <a:ext cx="100620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9240" y="3933720"/>
            <a:ext cx="98748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378936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313240" y="3789360"/>
            <a:ext cx="10432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75324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704880" y="52293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2289240" y="5300640"/>
            <a:ext cx="10065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728880" y="544500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37372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15772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728880" y="1773360"/>
            <a:ext cx="1017720" cy="13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8265960" y="3716280"/>
            <a:ext cx="976320" cy="108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8193240" y="5373720"/>
            <a:ext cx="1130040" cy="110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240160" y="692280"/>
            <a:ext cx="10479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54:34Z</dcterms:created>
  <dc:creator>JOHN YOUNG</dc:creator>
  <dc:description/>
  <dc:language>en-US</dc:language>
  <cp:lastModifiedBy>JY</cp:lastModifiedBy>
  <cp:lastPrinted>1999-12-13T15:13:31Z</cp:lastPrinted>
  <dcterms:modified xsi:type="dcterms:W3CDTF">2007-04-04T18:38:31Z</dcterms:modified>
  <cp:revision>25</cp:revision>
  <dc:subject/>
  <dc:title>No Slide Title</dc:title>
</cp:coreProperties>
</file>